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4F4-9855-419F-B84A-7289CEED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F36-AF97-4890-8A70-0B5F1DA0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AED-E1EE-419F-9D7B-92F9FA81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8D9C-A5A0-4758-8D43-7016A441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B772-BCD0-4061-A86B-6CCDE368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615-94A5-4159-80DD-7CC0CBA3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019-B1FC-4B2A-BB02-05CB79A0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B4C-E009-4886-A3E5-81716BD0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93C-3133-4473-99D3-C48EB563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4A6-FDF8-4C14-B60B-4EE6B245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5F41-9320-438A-B2C5-573D7891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25F3-C549-48C7-99F7-53E2CDE4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0C73-40FF-4A02-AE4F-649165FFD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&amp;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al: Understand why people chose to leave their homes and move to the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tion: the movement of people from one country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people move to a new place or coun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ush and Pull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Immigration: people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ush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 of their homeland against their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 Immigration: people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ul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 drawn) to a new home by the promise of something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827360" y="341280"/>
          <a:ext cx="5487840" cy="61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41280"/>
                    <a:ext cx="5487840" cy="61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457200"/>
            <a:ext cx="8382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 Answer questions 2-5 in complete sent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 1____________________ &amp; Letter 2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 1____________________&amp; Letter 2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 1____________________&amp; Letter 2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can you learn about life in the “Old Country” from letter 1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What can you learn about life in America from letter 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Does the author of letter 2 seem happy with life in America? Give an example from the letter to help support your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ive one example of push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 Bold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ll immigration from the le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5559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30600" y="380880"/>
            <a:ext cx="61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igration to The United States 1880-19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0:21:00Z</dcterms:created>
  <dc:creator>Nicole Bonning</dc:creator>
  <dc:description/>
  <dc:language>en-US</dc:language>
  <cp:lastModifiedBy>Nicole Bonning</cp:lastModifiedBy>
  <dcterms:modified xsi:type="dcterms:W3CDTF">2012-04-15T21:40:03Z</dcterms:modified>
  <cp:revision>4</cp:revision>
  <dc:subject/>
  <dc:title>History &amp; Geography</dc:title>
</cp:coreProperties>
</file>